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5D3F-C345-4A19-85C1-72E48A718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BB92-E78D-45FA-A42A-6CE165E31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5F86-3021-4749-96F1-D21FDF537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08F5-48B1-49EF-B1FA-5C64378DC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B968-1F19-4097-9AFD-4CDAC654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C44-6E6E-4C2C-B0CE-37EDDBA5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D03-E472-4D2D-AFD1-1DD882A9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F91-E4F4-44B6-BBAD-8F263972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A1D-29DF-4D1F-B6B8-98A54FAE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044-8E20-43EE-9F4E-A623B9E3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42DB-8087-42BB-8E0E-DFD0F13B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EF53-DEE4-4EB4-960C-EDCC2EE8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5556-C2FA-439F-A629-E3EED092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651-1E05-47D0-A8AA-A991FFD0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119-1CD7-470B-83CC-A922A59B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285-04AE-40CE-85D6-FEA519D5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76AE-2DA9-4B72-845A-0CF603E20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.likumi.lv/doc.php?id=174327#piel4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-3240" y="208080"/>
            <a:ext cx="9144000" cy="1568160"/>
          </a:xfrm>
          <a:prstGeom prst="rect">
            <a:avLst/>
          </a:prstGeom>
          <a:ln w="0">
            <a:noFill/>
          </a:ln>
        </p:spPr>
      </p:pic>
      <p:pic>
        <p:nvPicPr>
          <p:cNvPr id="91" name="Attēls 1" descr=""/>
          <p:cNvPicPr/>
          <p:nvPr/>
        </p:nvPicPr>
        <p:blipFill>
          <a:blip r:embed="rId2"/>
          <a:stretch/>
        </p:blipFill>
        <p:spPr>
          <a:xfrm>
            <a:off x="4687920" y="1525680"/>
            <a:ext cx="4648320" cy="3286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2124000" y="689040"/>
            <a:ext cx="626436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“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Latvijas Samariešu apvienīb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un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SIA «e-aprūpe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395280" y="2951280"/>
            <a:ext cx="45370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www.e-aprūpe.lv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Elektroniskā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aprūpes plānošana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sistēma jeb «ApSis</a:t>
            </a: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4356000" y="6093000"/>
            <a:ext cx="46101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4687920" y="5956200"/>
            <a:ext cx="439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andris.berzins@samariesi.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info@e-aprupe.l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Metodikas pamat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6000" y="133488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Latvijas pašvaldību un pakalpojumu sniegšanas prakse un vajadzī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saules pieredze (pētījumi un atziņ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atura vietturis 2"/>
          <p:cNvSpPr/>
          <p:nvPr/>
        </p:nvSpPr>
        <p:spPr>
          <a:xfrm>
            <a:off x="250920" y="3357720"/>
            <a:ext cx="82296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u vajadzība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- universāls, moderns, ērti lietojams, viegli saprotams, precīzs, ātrs, savietojams vērtēšanas instruments, kas fiksē pašaprūpes deficītus un tūlītēji “iztulko” šos deficītus nepieciešamajās darbībās (pakalpojumos un aprūpes plānā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entury Schoolbook"/>
              </a:rPr>
              <a:t>MK 288 – 4.pielikums </a:t>
            </a:r>
            <a:r>
              <a:rPr b="1" lang="lv-LV" sz="2400" spc="-1" strike="noStrike">
                <a:solidFill>
                  <a:srgbClr val="000000"/>
                </a:solidFill>
                <a:latin typeface="Century Schoolbook"/>
              </a:rPr>
              <a:t>(specif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144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ver līdzšinēji praksi un visu MK noteikumu 288 (līdz grozījumiem) sat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kcents uz pašaprūpes spējā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ersona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aprūpe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neatkarības un patstāvīgās dzīve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pēj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novērtēšanas vispārējie kritēr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matvajadzības; Mobilitāte un Personiskā higiēna veido 70% no vērtējuma vērt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oduļu pieeja (6 moduļ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2 pakāpju vērtības noteikšana (Funkcionalitātes vērtība un moduļa vērtīb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ar lietot gan papīrā, gan elektronis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39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Funkcionalitātes vērtē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1382400"/>
            <a:ext cx="888048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FACE (Functional Assessment of Care Environments) 5 pakāju ska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pīra versijā – universālas pazīmes e-versijā ar skaidrojošu raksturojum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eatkarīgs – 4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pilnībā veic patstāvīgi, spējas/funkcionalitāte nav traucē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pilnībā var izdarīt pats un nekāda palīdzība nav nepiecieš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andrīz neatkarīgs – 3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mēģina un lielākoties spēj veikt patstāvīgi, spējas/funkcionalitāte ir traucēta atsevišķu darbību veikšanai</a:t>
            </a:r>
            <a:r>
              <a:rPr b="0" lang="lv-LV" sz="19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kopumā tiek galā patstāvīgi, tomēr ir atsevišķas darbības, ko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omēr patstāvīgi vairs nevar vai, iespējams, nevar kādos atsevišķo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brīžos (slimību saasināju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0560" y="189000"/>
            <a:ext cx="8569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aļēji atkarīgs – 2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 un bez palīdzības nespēj veikt saistīt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Viens pats vairs galā netiek, tomēr spējas nav pilnībā zudu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darbības, kas ir nepieciešamas, ir funkcionalitātei atbalsto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uzturoš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ūtiski atkarīgs – 1 punk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, nepieciešami pakalpojumi funkcijas kompensēš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Bez citas personas pats galā vairs netiek. Funkcionalitāte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iemīt tikai atsevišķos elementos – un nepieciešamas darbības,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as kompensē konkrētās trūkstošās spē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tkarīgs – 0 punkt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nepiemīt, pilnībā vai kādu reāli iespējamu apstākļu dēļ persona var nonākt situācijās, kad funkcionalitāte nav, un šī situācija var apdraudēt personas dzīvību (ir iespēja palikt bezpalīdzīgā stāvoklī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7600" y="1109160"/>
            <a:ext cx="858204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Unikāls Latvijā veidots e-risinājums, kas vienotā sistēmā uzturēs visu sociālo pakalpojumu sniegšanas kompleksu - </a:t>
            </a:r>
            <a:r>
              <a:rPr b="0" lang="lv-LV" sz="2200" spc="-1" strike="noStrike" u="sng">
                <a:solidFill>
                  <a:srgbClr val="c00000"/>
                </a:solidFill>
                <a:uFillTx/>
                <a:latin typeface="Century Schoolbook"/>
              </a:rPr>
              <a:t>vajadzību izvērtē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70c0"/>
                </a:solidFill>
                <a:uFillTx/>
                <a:latin typeface="Century Schoolbook"/>
              </a:rPr>
              <a:t>pakalpojumu plāno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pakalpojumu sniegšanu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;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 </a:t>
            </a:r>
            <a:r>
              <a:rPr b="0" lang="lv-LV" sz="2200" spc="-1" strike="noStrike" u="sng">
                <a:solidFill>
                  <a:srgbClr val="222268"/>
                </a:solidFill>
                <a:uFillTx/>
                <a:latin typeface="Century Schoolbook"/>
              </a:rPr>
              <a:t>kontroli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. Tiek attīstīts un ieviests pakāpenisk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ajadzību izvērtēšanas daļa 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Latvijā veidota metodika (izmantojot pasaules praksi), kuras viena (neliela) daļa – līmeņa noteikšanai ietverta MK 28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APSis uzdevums: </a:t>
            </a:r>
            <a:r>
              <a:rPr b="0" lang="lv-LV" sz="2000" spc="-1" strike="noStrike" u="sng">
                <a:solidFill>
                  <a:srgbClr val="a20000"/>
                </a:solidFill>
                <a:uFillTx/>
                <a:latin typeface="Century Schoolbook"/>
              </a:rPr>
              <a:t>viena vērtēšanas procesa rezultātā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drošināt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Tūlītējus, objektīvus un precīzus vērtējuma rezultātus :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atzinumu sagatavošanu par visiem iespējamajiem sociālajiem pakalpojumiem»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klasifikatorā 24 ieraksti /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kā arī konkrētus rīcības uzdevums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 «rekomendējamās darbības» /šobrīd 2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2. izruku sagatavošanu atbilstoši visiem ārējiem normatīvajiem aktiem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MK 288 kopā ar pašvaldībās izmantojamo izvērtējuma anketu un Bartela skala/ drīzumā MK 8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9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Maksimāla ērtība lietošanā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isur izmatojams gan stacionārā datora gan ar mobilo versiju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darbībām dzīves vietā)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, ievades lauki vairumā ir definētas izvēlnes «minimāla nepieciešamība rakstīt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istēmiska uzbūve -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algoritmiska (izslēdzoša, pastiprinoša, nosakoša) sasaiste starp visiem informācijas laukiem – «sistēma reaģē uz katru info un izslēdz liekas darbības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avienojamība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ar esošām sistēm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SOPA, Kavis...) 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tehniski iespēja tikt savietotam ar e-veselība, PID 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Individualizēta lietotājs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sistēma tiek konfigurēta individuāla lietotāja – pašvaldības, pakalpojumu sniedzēja, vajadzīb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pievienot iespējamos pakalpojumus, darbus, pakalpojumu sniedzējus, definējot specifiskus algoritmus vai principus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84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Aprūpes līmeņa noteik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916280"/>
          <a:ext cx="8229600" cy="2865240"/>
        </p:xfrm>
        <a:graphic>
          <a:graphicData uri="http://schemas.openxmlformats.org/drawingml/2006/table">
            <a:tbl>
              <a:tblPr/>
              <a:tblGrid>
                <a:gridCol w="3682800"/>
                <a:gridCol w="1655640"/>
                <a:gridCol w="136872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a punkta vērtīb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punkta 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Piemēram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557360"/>
          <a:ext cx="8229600" cy="3235320"/>
        </p:xfrm>
        <a:graphic>
          <a:graphicData uri="http://schemas.openxmlformats.org/drawingml/2006/table">
            <a:tbl>
              <a:tblPr/>
              <a:tblGrid>
                <a:gridCol w="3683160"/>
                <a:gridCol w="1655640"/>
                <a:gridCol w="136836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u skaits kop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Demonstrācija </a:t>
            </a:r>
            <a:br>
              <a:rPr sz="4400"/>
            </a:b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www.e-aprupe.lv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Semināra nor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ispārēja un kopējā informācija par vērtēšanu un līmeņu noteikšan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ērtēšanas rīku demonstr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4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5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Praktiskās nodarbības – 2 grupā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2411280" y="981000"/>
            <a:ext cx="62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95280" y="728640"/>
            <a:ext cx="849636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LSA direktors Andris Bērziņ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andris.berzins@samariesi.lv 29242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A «e-aprūpe» projekta vadītājs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stēmas administrators Rihards Bērziņ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info@e-aprupe.lv 263610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eaprupe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211640" y="6021360"/>
            <a:ext cx="4753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Bija un ir jeb </a:t>
            </a:r>
            <a:br>
              <a:rPr sz="4000"/>
            </a:b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opīgais un atšķirīg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71480"/>
          <a:ext cx="8362800" cy="4297680"/>
        </p:xfrm>
        <a:graphic>
          <a:graphicData uri="http://schemas.openxmlformats.org/drawingml/2006/table">
            <a:tbl>
              <a:tblPr/>
              <a:tblGrid>
                <a:gridCol w="317808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līdz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 - 28. novembra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32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ērtē personas vajadzības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kļaujot personas vajadzību novērtēšanas kartē informāciju atbilstoši šo noteikumu 2.pielikumam, ja pilngadīga persona pieprasījusi kādu no šādiem sociālajiem pakalpojumiem 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.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ērtē personas vajadzības </a:t>
                      </a:r>
                      <a:r>
                        <a:rPr b="1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n nosaka aprūpes līmen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persona ir pieprasījusi sociālās aprūpes pakalpojumu dzīvesvietā vai ilgstošas sociālās aprūpes un sociālās rehabilitācijas institūcij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 Šo noteikumu </a:t>
                      </a:r>
                      <a:r>
                        <a:rPr b="0" lang="lv-LV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4. 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 6. pielikumā minēto novērtēšanas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arti ar izvērtēšanas rezultātiem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zmanto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lienta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prūpes organizēšanā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funkcionālo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ēju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zmaiņu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vērtēšanā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klients saņem sociālās aprūpes pakalpoju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Sociālās aprūpes pakalpojumu sniedzējs klienta aprūpes līmeni ņem vērā, sastādot klienta sociālās aprūpes vai sociālās rehabilitācijas plā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900000" y="74628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as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u kop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3984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273320" y="29401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mās darbības (pakalpoju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4888080" y="728640"/>
            <a:ext cx="38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šaprūpes spējas/prasmes (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703260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421160" y="2136600"/>
            <a:ext cx="216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 m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(vajadzīb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1413000" y="4808520"/>
            <a:ext cx="27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012000" y="4071960"/>
            <a:ext cx="275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4956120" y="5516640"/>
            <a:ext cx="38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Un tas viss dinamikā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Taisns bultveida savienotājs 14"/>
          <p:cNvCxnSpPr/>
          <p:nvPr/>
        </p:nvCxnSpPr>
        <p:spPr>
          <a:xfrm flipH="1">
            <a:off x="1369440" y="1589040"/>
            <a:ext cx="37692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Taisns bultveida savienotājs 15"/>
          <p:cNvCxnSpPr/>
          <p:nvPr/>
        </p:nvCxnSpPr>
        <p:spPr>
          <a:xfrm>
            <a:off x="2525760" y="1633320"/>
            <a:ext cx="7200" cy="1161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7" name="Taisns bultveida savienotājs 17"/>
          <p:cNvCxnSpPr/>
          <p:nvPr/>
        </p:nvCxnSpPr>
        <p:spPr>
          <a:xfrm flipH="1">
            <a:off x="2525040" y="4240080"/>
            <a:ext cx="1080" cy="573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8" name="Taisns bultveida savienotājs 19"/>
          <p:cNvCxnSpPr/>
          <p:nvPr/>
        </p:nvCxnSpPr>
        <p:spPr>
          <a:xfrm flipH="1">
            <a:off x="5562000" y="1595520"/>
            <a:ext cx="376920" cy="558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9" name="TextBox 20"/>
          <p:cNvSpPr/>
          <p:nvPr/>
        </p:nvSpPr>
        <p:spPr>
          <a:xfrm>
            <a:off x="92160" y="4370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Taisns bultveida savienotājs 21"/>
          <p:cNvCxnSpPr/>
          <p:nvPr/>
        </p:nvCxnSpPr>
        <p:spPr>
          <a:xfrm>
            <a:off x="860040" y="2715840"/>
            <a:ext cx="1080" cy="1647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1" name="Taisns bultveida savienotājs 24"/>
          <p:cNvCxnSpPr/>
          <p:nvPr/>
        </p:nvCxnSpPr>
        <p:spPr>
          <a:xfrm>
            <a:off x="6933960" y="1568520"/>
            <a:ext cx="52596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2" name="Taisns bultveida savienotājs 27"/>
          <p:cNvCxnSpPr/>
          <p:nvPr/>
        </p:nvCxnSpPr>
        <p:spPr>
          <a:xfrm>
            <a:off x="7490880" y="2715840"/>
            <a:ext cx="1080" cy="11898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3" name="Taisns bultveida savienotājs 30"/>
          <p:cNvCxnSpPr/>
          <p:nvPr/>
        </p:nvCxnSpPr>
        <p:spPr>
          <a:xfrm flipH="1">
            <a:off x="6638040" y="2793960"/>
            <a:ext cx="513720" cy="7214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4" name="TextBox 35"/>
          <p:cNvSpPr/>
          <p:nvPr/>
        </p:nvSpPr>
        <p:spPr>
          <a:xfrm>
            <a:off x="7729560" y="31971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6"/>
          <p:cNvSpPr/>
          <p:nvPr/>
        </p:nvSpPr>
        <p:spPr>
          <a:xfrm>
            <a:off x="4221000" y="3622680"/>
            <a:ext cx="20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kalpojum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Taisns bultveida savienotājs 37"/>
          <p:cNvCxnSpPr/>
          <p:nvPr/>
        </p:nvCxnSpPr>
        <p:spPr>
          <a:xfrm>
            <a:off x="7897320" y="2755800"/>
            <a:ext cx="313560" cy="5486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7" name="Taisns bultveida savienotājs 42"/>
          <p:cNvCxnSpPr>
            <a:endCxn id="75" idx="0"/>
          </p:cNvCxnSpPr>
          <p:nvPr/>
        </p:nvCxnSpPr>
        <p:spPr>
          <a:xfrm>
            <a:off x="5180040" y="3400200"/>
            <a:ext cx="69120" cy="222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8" name="Taisns bultveida savienotājs 45"/>
          <p:cNvCxnSpPr/>
          <p:nvPr/>
        </p:nvCxnSpPr>
        <p:spPr>
          <a:xfrm>
            <a:off x="6299280" y="3384360"/>
            <a:ext cx="348480" cy="7052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med"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23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entury Schoolbook"/>
              </a:rPr>
              <a:t>Aprūpes līmenis ir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personas pašaprūpes spēju iztrūkuma pakāpi raksturojoša,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skaitliski izteikta vērtīb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3284280"/>
            <a:ext cx="842472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Ar MK noteikumu grozījumiem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a valstī vienota un modernizēta pieeja aprūpes līmeņa noteikšan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i ierobežojumi saņemt pakalpojumus institūcijā (tikai personas ar 3. un 4.līmeni), kam pakopojumus nevar nodrošināt dzīvesviet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s vērtē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3.punk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33280" y="1417680"/>
            <a:ext cx="82296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lienta vajadzību izvērtēšanu un aprūpes līmeņa noteikšanu var veikt šādu institūciju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darbiniek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vai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aprūpētāji 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(turpmāk – speciālis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tā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s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ā dienesta vai tā deleģētas institūcijas speciālis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kuras teritorijā deklarēta klienta dzīvesvi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lgstošas sociālās aprūpes un sociālās rehabilitācijas institūcijas speciā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79280" y="51577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Cita pakalpojuma sniedzējs (izņemt SAC) var vērtēt, ja šo uzdevumu tam līgumā, nolikumā ir deleģējis/uzdevis sociālais dienests. Atbildība paliek sociālajam dienest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Vērtēšanā var piedalīties citi specialisti – atbildīgais ir attiecīgi sociālaisi darbinieks vai sociālais aprūpētājs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d vērtē 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1.un 32.punk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1433520"/>
            <a:ext cx="82296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ad klients (pārstāvis) pieprasa pakalpojumu dzīvesvietā vai SAC un aprūpes līmenis iepriekš nav bijis noteik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saņem pakalpojumu dzīvesvietā vai SAC un vismaz pēdējo triju mēnešu laikā konstatētas nepārejošas klienta funkcionālo spēju izmaiņ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strādājot un aktualizējot (minimāli - MK.338, bet drīkst biežāk) klienta individuālo sociālās rehabilitācijas vai sociālās aprūpes plān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vai tā likumiskais pārstāvis pieprasa citam aprūpes līmenim atbilstošu sociālās aprūpes pakalpojumu.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uru vērtēšanas karti un kad ir jāizmanto 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773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lv-LV" sz="2400" spc="-1" strike="noStrike">
                <a:solidFill>
                  <a:srgbClr val="000000"/>
                </a:solidFill>
                <a:latin typeface="Century Schoolbook"/>
              </a:rPr>
              <a:t>(pilnīgi visiem pašvaldības finansētiem pakalpojumiem, visiem klientiem – gan GRT gan FRT) 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ēc izvēles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4. vai 5. pielikumā ietveros kritērij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vēli nosaka lietderīgums jeb iespēja </a:t>
            </a: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teikt vajadzībām atbilstošākos sociālos pakalpojumus un to apjo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Izstādāt individuālo sociālās aprūpes/rehabilitācijas plā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Valsts finansēts SAC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5. pielikumā ietveros kritērijus un 6. pielikuma proto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0800" y="333000"/>
            <a:ext cx="88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Vērtēšanas process (kopumā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1160" y="162864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rosinājums (iesniegums, signāls u.c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ienošanās par laiku, vietu un komunikācijas veidu (ja ir apgrūtinājumi konsultēties ar ekspertie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zvērtēšana – intervija ar kontroljautājumiem – kontroljautājumi - palīginstruments iezīmē jēgu, var mainīt, papildinā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Dokumentēšana – eletroniski vai papīr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beigšana – klients jāiepazīstina, bet jāparaksta na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0:25:09Z</dcterms:created>
  <dc:creator>Andris</dc:creator>
  <dc:description/>
  <dc:language>en-US</dc:language>
  <cp:lastModifiedBy>Elvira Grabovska</cp:lastModifiedBy>
  <cp:lastPrinted>2018-01-17T13:32:59Z</cp:lastPrinted>
  <dcterms:modified xsi:type="dcterms:W3CDTF">2018-01-29T07:03:58Z</dcterms:modified>
  <cp:revision>153</cp:revision>
  <dc:subject/>
  <dc:title>Slide 1</dc:title>
</cp:coreProperties>
</file>